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4F8-10B6-4962-A459-C3C79599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B7A-91A8-41D4-BB6C-2DB34C91A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ssing skills as opposed to conten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folios enhance our ability to provide feed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274-B3C9-4A46-AB52-BBE17B3D8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D3F-4DF5-4E1E-B913-4DEC223CE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Note examples, DyKnow discu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ADD-7D89-4B3F-B238-A5F9497A0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Peers and Exp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9CE-0DA6-4FC9-AA31-B1B543208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346-BCEF-4FDE-8ED7-472F1104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91C-E68C-4F77-BC01-EC5AE47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35F-63C8-49EB-9A72-BFC08D7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0AE-5588-4A56-9815-CACD0D7A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AE5-B4A3-4FF4-9D9B-AE8C3502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17F-9DCF-4D7B-9595-8D635234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C58-A183-4045-83D6-4BC187CC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ECA-12AF-48B9-8B9F-8F3FFD2D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58D-21A2-44A1-BCC1-BDFF09C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A7F-A1DC-4F74-A512-37393B4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E16-50AB-418F-B48C-D983CC1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0DB-2D20-4452-B3B3-B71D115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938-02E9-48A3-8419-31E4DD8C9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alc.jpg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citing Integration Ideas in 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657600" y="51814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Amy Sche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Chair of Mathematics, JK –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Mary Institute and Saint Louis Country Day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ascheer@micds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Skill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ritical, Creative, Ethical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itizenship/Conn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Communic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 and Lead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ssing the 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05320" y="5943240"/>
            <a:ext cx="53337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earch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61689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evision of Our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El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grat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earch and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ur Core Math Cour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owchart: Process 3"/>
          <p:cNvSpPr/>
          <p:nvPr/>
        </p:nvSpPr>
        <p:spPr>
          <a:xfrm>
            <a:off x="457200" y="91440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gebr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lowchart: Process 4"/>
          <p:cNvSpPr/>
          <p:nvPr/>
        </p:nvSpPr>
        <p:spPr>
          <a:xfrm>
            <a:off x="457200" y="23623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tegrated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5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owchart: Process 5"/>
          <p:cNvSpPr/>
          <p:nvPr/>
        </p:nvSpPr>
        <p:spPr>
          <a:xfrm>
            <a:off x="457200" y="44956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lerated Integrated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6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lowchart: Process 10"/>
          <p:cNvSpPr/>
          <p:nvPr/>
        </p:nvSpPr>
        <p:spPr>
          <a:xfrm>
            <a:off x="4952880" y="37339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Stati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lowchart: Process 14"/>
          <p:cNvSpPr/>
          <p:nvPr/>
        </p:nvSpPr>
        <p:spPr>
          <a:xfrm>
            <a:off x="3352680" y="49528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Process 16"/>
          <p:cNvSpPr/>
          <p:nvPr/>
        </p:nvSpPr>
        <p:spPr>
          <a:xfrm>
            <a:off x="3352680" y="23623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. Mode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2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lowchart: Process 17"/>
          <p:cNvSpPr/>
          <p:nvPr/>
        </p:nvSpPr>
        <p:spPr>
          <a:xfrm>
            <a:off x="6477120" y="22096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19"/>
          <p:cNvSpPr/>
          <p:nvPr/>
        </p:nvSpPr>
        <p:spPr>
          <a:xfrm>
            <a:off x="1600200" y="1828800"/>
            <a:ext cx="46080" cy="4572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lowchart: Process 21"/>
          <p:cNvSpPr/>
          <p:nvPr/>
        </p:nvSpPr>
        <p:spPr>
          <a:xfrm>
            <a:off x="6400800" y="7621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lowchart: Process 23"/>
          <p:cNvSpPr/>
          <p:nvPr/>
        </p:nvSpPr>
        <p:spPr>
          <a:xfrm>
            <a:off x="3352680" y="1447920"/>
            <a:ext cx="2514600" cy="76176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1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th. Mode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2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3: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crete Mathema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ight Arrow 24"/>
          <p:cNvSpPr/>
          <p:nvPr/>
        </p:nvSpPr>
        <p:spPr>
          <a:xfrm>
            <a:off x="3048120" y="2743200"/>
            <a:ext cx="28404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ight Arrow 25"/>
          <p:cNvSpPr/>
          <p:nvPr/>
        </p:nvSpPr>
        <p:spPr>
          <a:xfrm rot="19858800">
            <a:off x="2715840" y="20491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ight Arrow 26"/>
          <p:cNvSpPr/>
          <p:nvPr/>
        </p:nvSpPr>
        <p:spPr>
          <a:xfrm rot="1555800">
            <a:off x="2631960" y="3798720"/>
            <a:ext cx="240192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ight Arrow 30"/>
          <p:cNvSpPr/>
          <p:nvPr/>
        </p:nvSpPr>
        <p:spPr>
          <a:xfrm rot="2816400">
            <a:off x="5025240" y="34153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lowchart: Process 31"/>
          <p:cNvSpPr/>
          <p:nvPr/>
        </p:nvSpPr>
        <p:spPr>
          <a:xfrm>
            <a:off x="3352680" y="594360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3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ight Arrow 32"/>
          <p:cNvSpPr/>
          <p:nvPr/>
        </p:nvSpPr>
        <p:spPr>
          <a:xfrm>
            <a:off x="3048120" y="5029200"/>
            <a:ext cx="284040" cy="46080"/>
          </a:xfrm>
          <a:prstGeom prst="rightArrow">
            <a:avLst>
              <a:gd name="adj1" fmla="val 50000"/>
              <a:gd name="adj2" fmla="val 497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ight Arrow 33"/>
          <p:cNvSpPr/>
          <p:nvPr/>
        </p:nvSpPr>
        <p:spPr>
          <a:xfrm rot="2816400">
            <a:off x="2448360" y="5769720"/>
            <a:ext cx="1001520" cy="44280"/>
          </a:xfrm>
          <a:prstGeom prst="rightArrow">
            <a:avLst>
              <a:gd name="adj1" fmla="val 50000"/>
              <a:gd name="adj2" fmla="val 516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ight Arrow 37"/>
          <p:cNvSpPr/>
          <p:nvPr/>
        </p:nvSpPr>
        <p:spPr>
          <a:xfrm rot="19858800">
            <a:off x="5230440" y="479232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lowchart: Process 38"/>
          <p:cNvSpPr/>
          <p:nvPr/>
        </p:nvSpPr>
        <p:spPr>
          <a:xfrm>
            <a:off x="6324480" y="4952880"/>
            <a:ext cx="2514600" cy="762120"/>
          </a:xfrm>
          <a:prstGeom prst="flowChart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P Calculus B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2 Trimester Cou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Arrow 39"/>
          <p:cNvSpPr/>
          <p:nvPr/>
        </p:nvSpPr>
        <p:spPr>
          <a:xfrm>
            <a:off x="5964120" y="5257800"/>
            <a:ext cx="284400" cy="46080"/>
          </a:xfrm>
          <a:prstGeom prst="rightArrow">
            <a:avLst>
              <a:gd name="adj1" fmla="val 50000"/>
              <a:gd name="adj2" fmla="val 497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46"/>
          <p:cNvCxnSpPr/>
          <p:nvPr/>
        </p:nvCxnSpPr>
        <p:spPr>
          <a:xfrm flipH="1">
            <a:off x="1598400" y="3276360"/>
            <a:ext cx="3600" cy="1143720"/>
          </a:xfrm>
          <a:prstGeom prst="straightConnector1">
            <a:avLst/>
          </a:prstGeom>
          <a:ln w="38160">
            <a:solidFill>
              <a:srgbClr val="e46c0a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106" name="Right Arrow 47"/>
          <p:cNvSpPr/>
          <p:nvPr/>
        </p:nvSpPr>
        <p:spPr>
          <a:xfrm rot="19858800">
            <a:off x="5763960" y="1211040"/>
            <a:ext cx="609480" cy="46080"/>
          </a:xfrm>
          <a:prstGeom prst="rightArrow">
            <a:avLst>
              <a:gd name="adj1" fmla="val 50000"/>
              <a:gd name="adj2" fmla="val 496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ight Arrow 49"/>
          <p:cNvSpPr/>
          <p:nvPr/>
        </p:nvSpPr>
        <p:spPr>
          <a:xfrm rot="19858800">
            <a:off x="5922720" y="2455560"/>
            <a:ext cx="506160" cy="46080"/>
          </a:xfrm>
          <a:prstGeom prst="rightArrow">
            <a:avLst>
              <a:gd name="adj1" fmla="val 50000"/>
              <a:gd name="adj2" fmla="val 495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5687" t="0" r="0" b="0"/>
          <a:stretch/>
        </p:blipFill>
        <p:spPr>
          <a:xfrm>
            <a:off x="1981080" y="1219320"/>
            <a:ext cx="5029200" cy="3992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e6f2"/>
                </a:solidFill>
                <a:latin typeface="Calibri"/>
              </a:rPr>
              <a:t>Vicki Davis, flatclassrooms.com/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ed 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Linear and Parabolic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Logger P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grated Mathema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Nonlinear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Fath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igon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tfolio Assignments  Yea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ing  with Periodic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data collection and analysis (Fath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port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refl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h from a Different 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5320" y="606564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flickr.com/photos/orcaman/534836767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statsfence.jpg"/>
          <p:cNvPicPr/>
          <p:nvPr/>
        </p:nvPicPr>
        <p:blipFill>
          <a:blip r:embed="rId1"/>
          <a:stretch/>
        </p:blipFill>
        <p:spPr>
          <a:xfrm>
            <a:off x="914400" y="1308240"/>
            <a:ext cx="74674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me of our El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lowchart: Process 2"/>
          <p:cNvSpPr/>
          <p:nvPr/>
        </p:nvSpPr>
        <p:spPr>
          <a:xfrm>
            <a:off x="1905120" y="10666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Programming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lowchart: Process 3"/>
          <p:cNvSpPr/>
          <p:nvPr/>
        </p:nvSpPr>
        <p:spPr>
          <a:xfrm>
            <a:off x="1905120" y="47242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ltivariable Calc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lowchart: Process 4"/>
          <p:cNvSpPr/>
          <p:nvPr/>
        </p:nvSpPr>
        <p:spPr>
          <a:xfrm>
            <a:off x="4952880" y="10666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disciplinary Statistics – Ecology &amp; Environmental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lowchart: Process 6"/>
          <p:cNvSpPr/>
          <p:nvPr/>
        </p:nvSpPr>
        <p:spPr>
          <a:xfrm>
            <a:off x="4952880" y="47242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ear Alge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lowchart: Process 9"/>
          <p:cNvSpPr/>
          <p:nvPr/>
        </p:nvSpPr>
        <p:spPr>
          <a:xfrm>
            <a:off x="3429000" y="2895480"/>
            <a:ext cx="236232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crete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lowchart: Process 10"/>
          <p:cNvSpPr/>
          <p:nvPr/>
        </p:nvSpPr>
        <p:spPr>
          <a:xfrm>
            <a:off x="6477120" y="28954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th, Math &amp; Mu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lowchart: Process 8"/>
          <p:cNvSpPr/>
          <p:nvPr/>
        </p:nvSpPr>
        <p:spPr>
          <a:xfrm>
            <a:off x="304920" y="2895480"/>
            <a:ext cx="2361960" cy="1454400"/>
          </a:xfrm>
          <a:prstGeom prst="flowChart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ing with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mptygoal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6f2"/>
                </a:solidFill>
                <a:latin typeface="Calibri"/>
              </a:rPr>
              <a:t>Goals for our (Math)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179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Produce convincing 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Use technology to find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Become critical consumers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Communicate effectively to a world-wide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886200" y="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e6f2"/>
                </a:solidFill>
                <a:latin typeface="Calibri"/>
              </a:rPr>
              <a:t>http://www.flickr.com/photos/keylosa/184606430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lores the surprising connections among mathematical, literary or mythic, musical and artistic representations of reality…the ways in which myth and science and math all ‘map’ realit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162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disciplinary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648400" cy="1362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219320" y="3352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ourse … blending the topics of science and statistics to allow exploration of data collected through experiments or research metho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pports in P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munication with other discip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essional development for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quent meetings within the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My school website:  www.micd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Email:  ascheer@micd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publi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6f2"/>
                </a:solidFill>
                <a:latin typeface="Calibri"/>
              </a:rPr>
              <a:t>Being Mindful of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Use technology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Col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ce6f2"/>
                </a:solidFill>
                <a:latin typeface="Calibri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886200" y="63244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e6f2"/>
                </a:solidFill>
                <a:latin typeface="Calibri"/>
              </a:rPr>
              <a:t>http://www.flickr.com/photos/vaxzine/28828061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124080"/>
            <a:ext cx="5334120" cy="30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733920" cy="3765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123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ximize the Opportunities Unique to Sch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5364000" y="4114800"/>
            <a:ext cx="3246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tree.jpg"/>
          <p:cNvPicPr/>
          <p:nvPr/>
        </p:nvPicPr>
        <p:blipFill>
          <a:blip r:embed="rId1"/>
          <a:stretch/>
        </p:blipFill>
        <p:spPr>
          <a:xfrm>
            <a:off x="0" y="45720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chnolog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144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..decentralizes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7"/>
          <p:cNvSpPr/>
          <p:nvPr/>
        </p:nvSpPr>
        <p:spPr>
          <a:xfrm>
            <a:off x="914400" y="659916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http://www.flickr.com/photos/wonderlane/2062184804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o we do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Encourage motivation and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Allow many students to work on the same problem simultaneous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 Promote flexibility and individu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mathfunpower_dtweney.jpg"/>
          <p:cNvPicPr/>
          <p:nvPr/>
        </p:nvPicPr>
        <p:blipFill>
          <a:blip r:embed="rId1"/>
          <a:stretch/>
        </p:blipFill>
        <p:spPr>
          <a:xfrm>
            <a:off x="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038480" y="65818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ttp://www.flickr.com/photos/dylan20/32968842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334120" y="838080"/>
            <a:ext cx="30477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Math is fun 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 written by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grader Clara on the back of her math worksh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couraging Creativity and Explo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Geogebraimage.jpg"/>
          <p:cNvPicPr/>
          <p:nvPr/>
        </p:nvPicPr>
        <p:blipFill>
          <a:blip r:embed="rId1"/>
          <a:stretch/>
        </p:blipFill>
        <p:spPr>
          <a:xfrm>
            <a:off x="533520" y="1295280"/>
            <a:ext cx="4657680" cy="3409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5999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t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990720" y="1514520"/>
            <a:ext cx="65055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7:01:51Z</dcterms:created>
  <dc:creator>Amy Scheer</dc:creator>
  <dc:description/>
  <dc:language>en-US</dc:language>
  <cp:lastModifiedBy>Fac - Montgomery,Bruce</cp:lastModifiedBy>
  <dcterms:modified xsi:type="dcterms:W3CDTF">2010-09-29T18:17:22Z</dcterms:modified>
  <cp:revision>151</cp:revision>
  <dc:subject/>
  <dc:title>Slide 1</dc:title>
</cp:coreProperties>
</file>